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EB8-93A4-4ECA-9098-A7C1A131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9FF-69B9-4E8F-B616-5C9F0D63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CF0-54DD-4470-8467-13BE8CD5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E0E-08DE-426C-ADF2-1E3074E4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B8C-1C5E-4285-A40B-C4D7F3AB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BA20-B50C-4D9F-903F-6EF1CE7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0E82-9807-4C89-BAAC-0CA735A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83DA-3A1D-43CE-A212-02A64572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1A3-0CA2-43AD-9E7F-32B85753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1996-AE08-4142-8671-4E3C5935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EE77-8E6F-4253-91B7-7E01201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D7C-EE2C-4BB0-B3B5-E7F6FBB1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0EFD-5033-4874-B350-748B00B4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004A-6B78-4743-87A7-4E1778B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C0D7-5CD8-47B1-8577-08ABC3DF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0297-7CAA-4B9D-A7FC-A600C425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3390-C4C0-47C1-9EBD-F213CCF2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F11-C0E1-4113-988E-9751007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FAC-F638-4C84-9AC7-2566331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5E3-5EA4-46AA-A369-FCB7CB4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D88-0279-4A2D-9387-5C47946A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FC1-5BB2-460C-A804-5608ECF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863-6028-4DF5-947D-EC5096D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D60-82BB-4830-9F28-D97C99C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7C79-2897-48CB-9631-F54771BCE345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3785-1528-4A1A-9E5D-1B3AB83D54D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 American Literature II - Unit 14 #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Explain how the title fits the story “The Jilting of Granny Weatherall” (3 parts)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lting - left at altar by George and at the end by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ny - she’s old and is a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all - she’s been through a lot of hard times (working, husband dying young, being left at the altar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Who wrote “A Rose for Emily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Faulk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What was the marriage between Alicia and Jordan lik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hat good - he never touched her, she thought the house was cold, he didn’t show much emotion or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What does Petit say about his poetry in “Petit the Poet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n’t very good - compares it to mites and s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hould have gone outside like Homer and Whitman - they wrote about the outdoors and were much more popular tha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What is the definition of epitap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s to remember a deceased loved on that used to go on tomb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What did Emily buy to make the townspeople think she would get marri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iletries with the initials HB on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What were two things found in the “marriage room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r’s tarnished toiletry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r’s dead body on the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ay hair on the pillow next to H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it, tie, shirt, socks, and shoes laying right next to the bed like they were just taken off - except for the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y, faded curt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How does the name Butch Weldy fit his epitap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 w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Who wrote “The Jilting of Granny Weatherall”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therine Anne Po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What is one thing Granny wanted to do before she di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the letters from George and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wine to a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How does Richard Bone feel about his job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n’t like it because people are writing false things on the tombstones - but he needs the money so he has to write what they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What are two reasons why the townspeople didn’t think Homer and Emily would dat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of two different economic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 from the South and he was from the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never dated before - why star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What does jilted mea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What is Katherine Anne Porter’s most famous 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ip of F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What are two ways Emily is stuck in the pas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give her dad’s body up for 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s to talk to Colonel Satoris even though she should know he is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s to put mailbox numbers on her do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What are two reasons Granny doesn’t like the doct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too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 sicker before and no one came - double pneumonia and milk l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doesn’t think she is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What is the definition of stream of consciousnes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yle of writing that conveys the inner and sometimes chaotic workings of a character’s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What did Faulkner say was a microcosm for universal themes of time, passions of the heart, and destruction of wildernes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Why did the townspeople want Emily to pay her taxe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she’d be humanized - not be better than anyone else because of money any m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What were two ways the town tried to help save Emily’s reput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n’t make her pay taxes when they knew she didn’t have the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n’t tell her she smelled, just spread lime around to combat the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Mindi Spear</cp:lastModifiedBy>
  <dcterms:modified xsi:type="dcterms:W3CDTF">2008-03-11T21:36:36Z</dcterms:modified>
  <cp:revision>11</cp:revision>
  <dc:subject/>
  <dc:title>Twenty Questions </dc:title>
</cp:coreProperties>
</file>